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1"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7"/>
          </p:nvPr>
        </p:nvSpPr>
        <p:spPr>
          <a:xfrm>
            <a:off x="396072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3"/>
          <p:cNvSpPr>
            <a:spLocks noGrp="1"/>
          </p:cNvSpPr>
          <p:nvPr>
            <p:ph type="sldImg"/>
          </p:nvPr>
        </p:nvSpPr>
        <p:spPr>
          <a:xfrm>
            <a:off x="1176120" y="696960"/>
            <a:ext cx="463860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524"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5" name="PlaceHolder 5"/>
          <p:cNvSpPr>
            <a:spLocks noGrp="1"/>
          </p:cNvSpPr>
          <p:nvPr>
            <p:ph type="ftr" idx="28"/>
          </p:nvPr>
        </p:nvSpPr>
        <p:spPr>
          <a:xfrm>
            <a:off x="0" y="8816760"/>
            <a:ext cx="302904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526" name="PlaceHolder 6"/>
          <p:cNvSpPr>
            <a:spLocks noGrp="1"/>
          </p:cNvSpPr>
          <p:nvPr>
            <p:ph type="sldNum" idx="29"/>
          </p:nvPr>
        </p:nvSpPr>
        <p:spPr>
          <a:xfrm>
            <a:off x="3960720" y="8816760"/>
            <a:ext cx="30290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C56B-CBED-4DB6-AA1B-EA6E3B614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6"/>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1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55AD-0CC1-4F01-BF66-1F8032F23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76480" y="696960"/>
            <a:ext cx="4638600" cy="3479760"/>
          </a:xfrm>
          <a:prstGeom prst="rect">
            <a:avLst/>
          </a:prstGeom>
          <a:ln w="0">
            <a:noFill/>
          </a:ln>
        </p:spPr>
      </p:sp>
      <p:sp>
        <p:nvSpPr>
          <p:cNvPr id="71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76480" y="696960"/>
            <a:ext cx="4638600" cy="3479760"/>
          </a:xfrm>
          <a:prstGeom prst="rect">
            <a:avLst/>
          </a:prstGeom>
          <a:ln w="0">
            <a:noFill/>
          </a:ln>
        </p:spPr>
      </p:sp>
      <p:sp>
        <p:nvSpPr>
          <p:cNvPr id="74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B36C-2F80-46C2-BFFA-47FCD281C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6480" y="696960"/>
            <a:ext cx="4638600" cy="3479760"/>
          </a:xfrm>
          <a:prstGeom prst="rect">
            <a:avLst/>
          </a:prstGeom>
          <a:ln w="0">
            <a:noFill/>
          </a:ln>
        </p:spPr>
      </p:sp>
      <p:sp>
        <p:nvSpPr>
          <p:cNvPr id="7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9BB8-96AB-4B37-AA64-90139C9B4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6"/>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D83C-7529-484B-B7F4-D3458568F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76480" y="696960"/>
            <a:ext cx="4638600" cy="3479760"/>
          </a:xfrm>
          <a:prstGeom prst="rect">
            <a:avLst/>
          </a:prstGeom>
          <a:ln w="0">
            <a:noFill/>
          </a:ln>
        </p:spPr>
      </p:sp>
      <p:sp>
        <p:nvSpPr>
          <p:cNvPr id="758"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bout Objects: Usually operating or current expendi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current operating? Or some sub-set excluding items like transportation, foo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venues, just state and local, or from all sources, local, state and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ovement to class size, numbers and quality of teachers, actual class size (i.e., not pupil-staff rat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bout the Group: Students, taxpayers, teachers, par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payer equity analyzed within a public finance, tax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equity for students --Equal spending plus adjustments for nee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ing not-linked to local “wealth,” i.e., property value per pupil, i.e., fis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76480" y="696960"/>
            <a:ext cx="4638600" cy="3479760"/>
          </a:xfrm>
          <a:prstGeom prst="rect">
            <a:avLst/>
          </a:prstGeom>
          <a:ln w="0">
            <a:noFill/>
          </a:ln>
        </p:spPr>
      </p:sp>
      <p:sp>
        <p:nvSpPr>
          <p:cNvPr id="76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6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0DC6-731D-431B-9232-0A5DA2B80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76480" y="696960"/>
            <a:ext cx="4638600" cy="3479760"/>
          </a:xfrm>
          <a:prstGeom prst="rect">
            <a:avLst/>
          </a:prstGeom>
          <a:ln w="0">
            <a:noFill/>
          </a:ln>
        </p:spPr>
      </p:sp>
      <p:sp>
        <p:nvSpPr>
          <p:cNvPr id="76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6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E86C-1A16-4FDD-8331-A1FE3878C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76480" y="696960"/>
            <a:ext cx="4638600" cy="3479760"/>
          </a:xfrm>
          <a:prstGeom prst="rect">
            <a:avLst/>
          </a:prstGeom>
          <a:ln w="0">
            <a:noFill/>
          </a:ln>
        </p:spPr>
      </p:sp>
      <p:sp>
        <p:nvSpPr>
          <p:cNvPr id="76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5DEB-82CD-496A-9FD1-67398AEB1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76480" y="696960"/>
            <a:ext cx="4638600" cy="3479760"/>
          </a:xfrm>
          <a:prstGeom prst="rect">
            <a:avLst/>
          </a:prstGeom>
          <a:ln w="0">
            <a:noFill/>
          </a:ln>
        </p:spPr>
      </p:sp>
      <p:sp>
        <p:nvSpPr>
          <p:cNvPr id="77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AA39-8EC4-4826-AE0C-A074A94DA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76480" y="696960"/>
            <a:ext cx="4638600" cy="3479760"/>
          </a:xfrm>
          <a:prstGeom prst="rect">
            <a:avLst/>
          </a:prstGeom>
          <a:ln w="0">
            <a:noFill/>
          </a:ln>
        </p:spPr>
      </p:sp>
      <p:sp>
        <p:nvSpPr>
          <p:cNvPr id="77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60DB-AA73-45DD-B6E5-DFC46EAC5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76480" y="696960"/>
            <a:ext cx="4638600" cy="3479760"/>
          </a:xfrm>
          <a:prstGeom prst="rect">
            <a:avLst/>
          </a:prstGeom>
          <a:ln w="0">
            <a:noFill/>
          </a:ln>
        </p:spPr>
      </p:sp>
      <p:sp>
        <p:nvSpPr>
          <p:cNvPr id="78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8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69DD-CF2C-4CCA-8242-6190661E2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76480" y="696960"/>
            <a:ext cx="4638600" cy="3479760"/>
          </a:xfrm>
          <a:prstGeom prst="rect">
            <a:avLst/>
          </a:prstGeom>
          <a:ln w="0">
            <a:noFill/>
          </a:ln>
        </p:spPr>
      </p:sp>
      <p:sp>
        <p:nvSpPr>
          <p:cNvPr id="78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8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83C6-AF1A-447F-AE3F-E1FEE9ECA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76480" y="696960"/>
            <a:ext cx="4638600" cy="3479760"/>
          </a:xfrm>
          <a:prstGeom prst="rect">
            <a:avLst/>
          </a:prstGeom>
          <a:ln w="0">
            <a:noFill/>
          </a:ln>
        </p:spPr>
      </p:sp>
      <p:sp>
        <p:nvSpPr>
          <p:cNvPr id="71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1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B46F-E705-4023-B933-EEE48E769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76480" y="696960"/>
            <a:ext cx="4638600" cy="3479760"/>
          </a:xfrm>
          <a:prstGeom prst="rect">
            <a:avLst/>
          </a:prstGeom>
          <a:ln w="0">
            <a:noFill/>
          </a:ln>
        </p:spPr>
      </p:sp>
      <p:sp>
        <p:nvSpPr>
          <p:cNvPr id="7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254B-87B1-4160-8D52-C81E76A17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76480" y="696960"/>
            <a:ext cx="4638600" cy="3479760"/>
          </a:xfrm>
          <a:prstGeom prst="rect">
            <a:avLst/>
          </a:prstGeom>
          <a:ln w="0">
            <a:noFill/>
          </a:ln>
        </p:spPr>
      </p:sp>
      <p:sp>
        <p:nvSpPr>
          <p:cNvPr id="79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9530-7ABD-4ECD-8AD0-B131351D5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76480" y="696960"/>
            <a:ext cx="4638600" cy="3479760"/>
          </a:xfrm>
          <a:prstGeom prst="rect">
            <a:avLst/>
          </a:prstGeom>
          <a:ln w="0">
            <a:noFill/>
          </a:ln>
        </p:spPr>
      </p:sp>
      <p:sp>
        <p:nvSpPr>
          <p:cNvPr id="79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CDCA-2977-4BF7-B4B9-70BE25AFC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76480" y="696960"/>
            <a:ext cx="4638600" cy="3479760"/>
          </a:xfrm>
          <a:prstGeom prst="rect">
            <a:avLst/>
          </a:prstGeom>
          <a:ln w="0">
            <a:noFill/>
          </a:ln>
        </p:spPr>
      </p:sp>
      <p:sp>
        <p:nvSpPr>
          <p:cNvPr id="80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0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2FF8-8FAC-4DE9-8B45-E8CF8C269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76480" y="696960"/>
            <a:ext cx="4638600" cy="3479760"/>
          </a:xfrm>
          <a:prstGeom prst="rect">
            <a:avLst/>
          </a:prstGeom>
          <a:ln w="0">
            <a:noFill/>
          </a:ln>
        </p:spPr>
      </p:sp>
      <p:sp>
        <p:nvSpPr>
          <p:cNvPr id="80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0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0473-454C-4803-8BA5-E7D7EFC1B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76480" y="696960"/>
            <a:ext cx="4638600" cy="3479760"/>
          </a:xfrm>
          <a:prstGeom prst="rect">
            <a:avLst/>
          </a:prstGeom>
          <a:ln w="0">
            <a:noFill/>
          </a:ln>
        </p:spPr>
      </p:sp>
      <p:sp>
        <p:nvSpPr>
          <p:cNvPr id="80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2F00-CD83-48F7-942C-03356F64C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76480" y="696960"/>
            <a:ext cx="4638600" cy="3479760"/>
          </a:xfrm>
          <a:prstGeom prst="rect">
            <a:avLst/>
          </a:prstGeom>
          <a:ln w="0">
            <a:noFill/>
          </a:ln>
        </p:spPr>
      </p:sp>
      <p:sp>
        <p:nvSpPr>
          <p:cNvPr id="81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3B70-0AC6-44DB-B759-BC507AB6B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76480" y="696960"/>
            <a:ext cx="4638600" cy="3479760"/>
          </a:xfrm>
          <a:prstGeom prst="rect">
            <a:avLst/>
          </a:prstGeom>
          <a:ln w="0">
            <a:noFill/>
          </a:ln>
        </p:spPr>
      </p:sp>
      <p:sp>
        <p:nvSpPr>
          <p:cNvPr id="81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8E05-633A-4018-8B8B-E116D7690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76480" y="696960"/>
            <a:ext cx="4638600" cy="3479760"/>
          </a:xfrm>
          <a:prstGeom prst="rect">
            <a:avLst/>
          </a:prstGeom>
          <a:ln w="0">
            <a:noFill/>
          </a:ln>
        </p:spPr>
      </p:sp>
      <p:sp>
        <p:nvSpPr>
          <p:cNvPr id="82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2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9D88-F82E-4010-AF9F-E0BED2CBD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76480" y="696960"/>
            <a:ext cx="4638600" cy="3479760"/>
          </a:xfrm>
          <a:prstGeom prst="rect">
            <a:avLst/>
          </a:prstGeom>
          <a:ln w="0">
            <a:noFill/>
          </a:ln>
        </p:spPr>
      </p:sp>
      <p:sp>
        <p:nvSpPr>
          <p:cNvPr id="8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2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EA08-093C-4FD1-8F5D-2FAFA480E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76480" y="696960"/>
            <a:ext cx="4638600" cy="3479760"/>
          </a:xfrm>
          <a:prstGeom prst="rect">
            <a:avLst/>
          </a:prstGeom>
          <a:ln w="0">
            <a:noFill/>
          </a:ln>
        </p:spPr>
      </p:sp>
      <p:sp>
        <p:nvSpPr>
          <p:cNvPr id="72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2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D470-8DAC-480E-9E4E-362E80F11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76480" y="696960"/>
            <a:ext cx="4638600" cy="3479760"/>
          </a:xfrm>
          <a:prstGeom prst="rect">
            <a:avLst/>
          </a:prstGeom>
          <a:ln w="0">
            <a:noFill/>
          </a:ln>
        </p:spPr>
      </p:sp>
      <p:sp>
        <p:nvSpPr>
          <p:cNvPr id="82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FBFA-E3D9-4BD0-8597-E73372BBA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76480" y="696960"/>
            <a:ext cx="4638600" cy="3479760"/>
          </a:xfrm>
          <a:prstGeom prst="rect">
            <a:avLst/>
          </a:prstGeom>
          <a:ln w="0">
            <a:noFill/>
          </a:ln>
        </p:spPr>
      </p:sp>
      <p:sp>
        <p:nvSpPr>
          <p:cNvPr id="83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F536-6577-4C5A-B287-49AAE8057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76480" y="696960"/>
            <a:ext cx="4638600" cy="3479760"/>
          </a:xfrm>
          <a:prstGeom prst="rect">
            <a:avLst/>
          </a:prstGeom>
          <a:ln w="0">
            <a:noFill/>
          </a:ln>
        </p:spPr>
      </p:sp>
      <p:sp>
        <p:nvSpPr>
          <p:cNvPr id="8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6A02-9A37-426B-B214-C1A0C5D31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76480" y="696960"/>
            <a:ext cx="4638600" cy="3479760"/>
          </a:xfrm>
          <a:prstGeom prst="rect">
            <a:avLst/>
          </a:prstGeom>
          <a:ln w="0">
            <a:noFill/>
          </a:ln>
        </p:spPr>
      </p:sp>
      <p:sp>
        <p:nvSpPr>
          <p:cNvPr id="8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4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CB4C-367D-4E13-896A-1A31CB2E9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76480" y="696960"/>
            <a:ext cx="4638600" cy="3479760"/>
          </a:xfrm>
          <a:prstGeom prst="rect">
            <a:avLst/>
          </a:prstGeom>
          <a:ln w="0">
            <a:noFill/>
          </a:ln>
        </p:spPr>
      </p:sp>
      <p:sp>
        <p:nvSpPr>
          <p:cNvPr id="84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4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592D-F69E-48A2-993D-D3EF5EC1F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76480" y="696960"/>
            <a:ext cx="4638600" cy="3479760"/>
          </a:xfrm>
          <a:prstGeom prst="rect">
            <a:avLst/>
          </a:prstGeom>
          <a:ln w="0">
            <a:noFill/>
          </a:ln>
        </p:spPr>
      </p:sp>
      <p:sp>
        <p:nvSpPr>
          <p:cNvPr id="84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3132-9DD8-40C1-8FFC-10E573413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76480" y="696960"/>
            <a:ext cx="4638600" cy="3479760"/>
          </a:xfrm>
          <a:prstGeom prst="rect">
            <a:avLst/>
          </a:prstGeom>
          <a:ln w="0">
            <a:noFill/>
          </a:ln>
        </p:spPr>
      </p:sp>
      <p:sp>
        <p:nvSpPr>
          <p:cNvPr id="8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A637-A707-40B6-A427-E2130B7B0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76480" y="696960"/>
            <a:ext cx="4638600" cy="3479760"/>
          </a:xfrm>
          <a:prstGeom prst="rect">
            <a:avLst/>
          </a:prstGeom>
          <a:ln w="0">
            <a:noFill/>
          </a:ln>
        </p:spPr>
      </p:sp>
      <p:sp>
        <p:nvSpPr>
          <p:cNvPr id="85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4095-93EF-4E24-BFFF-695113A0A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76480" y="696960"/>
            <a:ext cx="4638600" cy="3479760"/>
          </a:xfrm>
          <a:prstGeom prst="rect">
            <a:avLst/>
          </a:prstGeom>
          <a:ln w="0">
            <a:noFill/>
          </a:ln>
        </p:spPr>
      </p:sp>
      <p:sp>
        <p:nvSpPr>
          <p:cNvPr id="86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6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243C-A303-4FFD-991C-49FC0E326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76480" y="696960"/>
            <a:ext cx="4638600" cy="3479760"/>
          </a:xfrm>
          <a:prstGeom prst="rect">
            <a:avLst/>
          </a:prstGeom>
          <a:ln w="0">
            <a:noFill/>
          </a:ln>
        </p:spPr>
      </p:sp>
      <p:sp>
        <p:nvSpPr>
          <p:cNvPr id="86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6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A203-C4B7-4162-BD43-4DF2792DD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76480" y="696960"/>
            <a:ext cx="4638600" cy="3479760"/>
          </a:xfrm>
          <a:prstGeom prst="rect">
            <a:avLst/>
          </a:prstGeom>
          <a:ln w="0">
            <a:noFill/>
          </a:ln>
        </p:spPr>
      </p:sp>
      <p:sp>
        <p:nvSpPr>
          <p:cNvPr id="7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2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287D-2B19-43C9-BFA1-A95EA8DCC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76480" y="696960"/>
            <a:ext cx="4638600" cy="3479760"/>
          </a:xfrm>
          <a:prstGeom prst="rect">
            <a:avLst/>
          </a:prstGeom>
          <a:ln w="0">
            <a:noFill/>
          </a:ln>
        </p:spPr>
      </p:sp>
      <p:sp>
        <p:nvSpPr>
          <p:cNvPr id="86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9735-F93D-4C27-979E-5D88B9801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76480" y="696960"/>
            <a:ext cx="4638600" cy="3479760"/>
          </a:xfrm>
          <a:prstGeom prst="rect">
            <a:avLst/>
          </a:prstGeom>
          <a:ln w="0">
            <a:noFill/>
          </a:ln>
        </p:spPr>
      </p:sp>
      <p:sp>
        <p:nvSpPr>
          <p:cNvPr id="87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C943-1DA2-44B8-BFD5-6A57B1A23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76480" y="696960"/>
            <a:ext cx="4638600" cy="3479760"/>
          </a:xfrm>
          <a:prstGeom prst="rect">
            <a:avLst/>
          </a:prstGeom>
          <a:ln w="0">
            <a:noFill/>
          </a:ln>
        </p:spPr>
      </p:sp>
      <p:sp>
        <p:nvSpPr>
          <p:cNvPr id="87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5E68-4A23-4946-9DE5-41750DE8E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76480" y="696960"/>
            <a:ext cx="4638600" cy="3479760"/>
          </a:xfrm>
          <a:prstGeom prst="rect">
            <a:avLst/>
          </a:prstGeom>
          <a:ln w="0">
            <a:noFill/>
          </a:ln>
        </p:spPr>
      </p:sp>
      <p:sp>
        <p:nvSpPr>
          <p:cNvPr id="88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8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0D5C-E3A4-401A-A847-BD78274C8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76480" y="696960"/>
            <a:ext cx="4638600" cy="3479760"/>
          </a:xfrm>
          <a:prstGeom prst="rect">
            <a:avLst/>
          </a:prstGeom>
          <a:ln w="0">
            <a:noFill/>
          </a:ln>
        </p:spPr>
      </p:sp>
      <p:sp>
        <p:nvSpPr>
          <p:cNvPr id="88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8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4AD4-12BB-48EB-8CF4-9EF5A2C4B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76480" y="696960"/>
            <a:ext cx="4638600" cy="3479760"/>
          </a:xfrm>
          <a:prstGeom prst="rect">
            <a:avLst/>
          </a:prstGeom>
          <a:ln w="0">
            <a:noFill/>
          </a:ln>
        </p:spPr>
      </p:sp>
      <p:sp>
        <p:nvSpPr>
          <p:cNvPr id="8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9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4559-211E-4E01-8C05-3E5C26928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76480" y="696960"/>
            <a:ext cx="4638600" cy="3479760"/>
          </a:xfrm>
          <a:prstGeom prst="rect">
            <a:avLst/>
          </a:prstGeom>
          <a:ln w="0">
            <a:noFill/>
          </a:ln>
        </p:spPr>
      </p:sp>
      <p:sp>
        <p:nvSpPr>
          <p:cNvPr id="72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BB7F-E571-42B0-8C10-FA3E08BC5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76480" y="696960"/>
            <a:ext cx="4638600" cy="3479760"/>
          </a:xfrm>
          <a:prstGeom prst="rect">
            <a:avLst/>
          </a:prstGeom>
          <a:ln w="0">
            <a:noFill/>
          </a:ln>
        </p:spPr>
      </p:sp>
      <p:sp>
        <p:nvSpPr>
          <p:cNvPr id="73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24BC-7ED2-4C4E-99C7-9B2789ABD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76480" y="696960"/>
            <a:ext cx="4638600" cy="3479760"/>
          </a:xfrm>
          <a:prstGeom prst="rect">
            <a:avLst/>
          </a:prstGeom>
          <a:ln w="0">
            <a:noFill/>
          </a:ln>
        </p:spPr>
      </p:sp>
      <p:sp>
        <p:nvSpPr>
          <p:cNvPr id="7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9D32-1896-4567-A0AB-0DBA8A0EC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76480" y="696960"/>
            <a:ext cx="4638600" cy="3479760"/>
          </a:xfrm>
          <a:prstGeom prst="rect">
            <a:avLst/>
          </a:prstGeom>
          <a:ln w="0">
            <a:noFill/>
          </a:ln>
        </p:spPr>
      </p:sp>
      <p:sp>
        <p:nvSpPr>
          <p:cNvPr id="7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4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58CA-0604-4F15-80D0-925365D29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76480" y="696960"/>
            <a:ext cx="4638600" cy="3479760"/>
          </a:xfrm>
          <a:prstGeom prst="rect">
            <a:avLst/>
          </a:prstGeom>
          <a:ln w="0">
            <a:noFill/>
          </a:ln>
        </p:spPr>
      </p:sp>
      <p:sp>
        <p:nvSpPr>
          <p:cNvPr id="74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4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3088-0CC8-49A1-BAD4-39A23963C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230FA1-64B5-4EBC-BB54-058CE64FFA1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41ADFBB-14BF-4528-B0B6-74FE57E7D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2E366F2F-A83D-4080-8BE6-03A9A37CF85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8"/>
          </p:nvPr>
        </p:nvSpPr>
        <p:spPr/>
        <p:txBody>
          <a:bodyPr/>
          <a:p>
            <a:fld id="{1E762B59-D37A-46D1-9CC8-2AC825FF9D8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B31D2C03-6FCE-43D8-85F7-A8B70A871D5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14EEF17A-25A0-40EE-8A43-4B9D64F5C2A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4FFF2C07-7E49-4288-A93F-46580E13B0A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290CCB36-A40C-49B1-99BC-98D3316EA12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82EEB998-ADCF-437E-851F-B2AAC3A9910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82D571FB-62F5-4E36-8E2C-1316518196E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BC699E08-3D87-4678-A389-9D24F365A47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9D6B3F4-246C-46CA-AB39-3B3C513DE31B}"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BCEFC76-DAAA-40A0-A2B6-A50715EDF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00351FC7-54DA-47F7-B82F-23D35C23D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0B2BC37F-97E9-438E-A91A-415DF43162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3289C9E4-416F-443B-9B1B-451F0F40A2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0"/>
          </p:nvPr>
        </p:nvSpPr>
        <p:spPr/>
        <p:txBody>
          <a:bodyPr/>
          <a:p>
            <a:fld id="{50536BB0-5722-4BF4-8A1D-3B3A598494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3B2CCCA1-C175-4A17-86AF-A7259A3C8B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FBDF1731-4B67-4B8D-912B-2F3226E029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C83BD639-C13B-4872-B0EB-1D117E703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201F7CA9-2D80-4980-AA99-77C4B459ED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F7A44CA2-2BF2-4F9F-A178-026CCF0AA9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D0539366-2966-479D-9234-2587FAACDA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152B5BF-894A-422A-80AF-AE96C17D24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A87B424C-1488-47C4-9B24-A945B176AC6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EBBA628-4228-43CF-8423-DE1B20BBD45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6A9605DF-6633-450C-B803-10601472A1D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67B1418D-14C9-4190-A7AE-C0265C4947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C6420472-9E87-4F15-A79B-90EB434FBED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2"/>
          </p:nvPr>
        </p:nvSpPr>
        <p:spPr/>
        <p:txBody>
          <a:bodyPr/>
          <a:p>
            <a:fld id="{7B1BF158-229C-42CF-9268-0A8C230C8D2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7B828D93-5DCC-4B71-BD1F-77F03796C6C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48C83A96-9ACF-408C-879E-F3EEB0D9260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B2EDCB18-A646-42F6-B657-E38B328759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919EEC9F-EE8F-4BCD-B1EF-24D0FFD7E4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755887-8FC0-4DE8-B7BC-767A9634F5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0D97636D-4FE2-444F-A045-BE9D00DE252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EA2AD409-C898-4717-8533-535041450D0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00EE1AB8-51A0-4A79-9100-02CAB7EA09E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B7F6817-9E47-41C3-A0B8-6C4229F9D64C}"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CC012A58-BE9F-4DF6-95EB-5D6714E670B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72F7110A-D25E-47D6-9987-722FDBEA83C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9772EDF2-8CFF-4E01-B602-F95B6F815D1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4"/>
          </p:nvPr>
        </p:nvSpPr>
        <p:spPr/>
        <p:txBody>
          <a:bodyPr/>
          <a:p>
            <a:fld id="{75ED5C97-A9DB-405D-9E44-E914D20EB77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736B55F7-6960-4225-8462-49B3E6CD105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C512ED0-4F5F-4972-8474-7AC85CD1268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B03679D-16EF-4F3F-90E5-48419764C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0B620FD0-AEBF-4259-8150-72BA524F977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FCDBD44B-ED05-4E4B-8385-EA82B0315CA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8085851E-8948-42DA-B68C-016274769AF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CC2F52C1-C44E-45D0-88CE-D019A9E0B47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5CCB5ED4-814D-4F07-8558-6D94C352DE5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1478D64-3D11-4F6D-882C-98116C941EDC}"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2031F593-B8E5-408C-A8BF-F6B8A38E53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7ADE5687-C317-461B-9BB4-FDF1FBF63A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4975F6E3-5E98-4F44-9367-7F0668BD57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6"/>
          </p:nvPr>
        </p:nvSpPr>
        <p:spPr/>
        <p:txBody>
          <a:bodyPr/>
          <a:p>
            <a:fld id="{610D3304-CBD1-46B2-8833-D65C53EA67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D38ED24-370D-409D-B7DB-A1329FF53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B8BD1D42-5ADC-486B-8806-B0A82298C0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D3AFF3C5-F05E-4FCA-AA6E-A7F8ED51CF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E5D06C5E-FB9C-40F7-8DD6-AA973F5761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D9598C17-49E4-461A-9697-4DF6C20CDA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0FCBC8BF-8A53-455C-ADD0-E2518EF46B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5DB66A6E-7801-4023-A462-D125278CE9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25DC0A29-8D15-4FE4-A4C9-4E69B886FCB3}"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4C0537A-C16D-4289-8C10-161175C9E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4"/>
          </p:nvPr>
        </p:nvSpPr>
        <p:spPr/>
        <p:txBody>
          <a:bodyPr/>
          <a:p>
            <a:fld id="{3069550D-A179-406E-9B06-5EBE8638D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6F404F6E-5C7D-4939-85EF-D2C00DE7F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0EE28F1-9EEE-4E49-98B9-7A30431E7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D7F190E-AFAE-4C96-90DB-B133F84B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6FD9B9B-B0BF-41FD-B2A0-E93A26662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5F5C379-FD06-4773-B1EE-B4EF83E92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D0A14F8-02C5-4ED8-AAC8-930C146C8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F8CC28A-4727-42BC-8679-2693ACA84E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B16C5B7-F5BD-4405-97C4-8D94DBB62B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9672A18-14AC-4AE6-8767-AF28FE1FB96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67389D6-7A1F-4E8C-B79A-63640EA39C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5CAE172-ABFC-4E19-99CB-E938D971E7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5F9EF63-EC96-4517-B318-2FE8196707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6"/>
          </p:nvPr>
        </p:nvSpPr>
        <p:spPr/>
        <p:txBody>
          <a:bodyPr/>
          <a:p>
            <a:fld id="{AF7D8ED0-33AE-4DA5-98B8-85AE629600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0B69514-ABC2-49BF-94F4-54470D3A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5ADE7EC9-9A16-4DFC-9C7C-52A12019E5D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94FC327-CB16-4F73-9136-9DE5C4F7CE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810E729-EC8A-4479-A16D-B0AC55E511C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E70D1FB-9D33-4A80-86F3-C281A6A570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1D1F835-FD32-4A7A-B374-E6CD436C426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E6350AF-1C15-4121-A454-3D26B1E4ED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6CFC16D-DBDC-4311-803D-702C39C29CC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DE7F400-1533-41FA-B474-F92064D4EA8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3508A5F-61C3-4768-A586-6C3491812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18EF884-DF0A-4A79-8A73-E5DF620C4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17653BC-A28C-4C77-9E7D-8F51343BF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2E99B58-66A2-4240-9BED-3B58842C5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8"/>
          </p:nvPr>
        </p:nvSpPr>
        <p:spPr/>
        <p:txBody>
          <a:bodyPr/>
          <a:p>
            <a:fld id="{D4009EE8-CC66-427D-92EF-A7594BF3B6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25AE180-24B4-4F7C-B18E-6C1570EFA0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F6B4F64-A57C-427F-874C-207C6A7DD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F3F07AF-E9AC-476D-950F-FC7841027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F1F58B6-046C-4406-B0C0-A16B529BF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1508583-D7E9-4486-A231-BFC52719D0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67932550-9F1B-4B92-A5B8-C03EB1EAC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B9C69E3-1459-41EF-A242-D808439DDBF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1908CD5-DB63-4E24-84AB-915D87D94F6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
          </p:nvPr>
        </p:nvSpPr>
        <p:spPr/>
        <p:txBody>
          <a:bodyPr/>
          <a:p>
            <a:fld id="{F1023B12-5CD9-40B9-88F2-730FBA272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7D44260-B394-4A75-9B38-74844A3DA2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85A5E98-9F3F-4AA7-A2E3-68DB2BFA6E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59B2CA7-C726-4B03-B1CD-3E337FCABA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0"/>
          </p:nvPr>
        </p:nvSpPr>
        <p:spPr/>
        <p:txBody>
          <a:bodyPr/>
          <a:p>
            <a:fld id="{2445D7A7-971E-4AA7-83BE-C9AC6DFF8F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376D0B45-365B-4714-9700-100C056E3A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A8ABF50-FA7C-4AA4-9895-24DC92038F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0195487-AC80-49D1-9F08-5000EB7220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75D17B8-7085-44A8-B7F1-913A680AB2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83FF7AF-3143-4400-B996-2EFDF4A8BE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783CBBC2-4AD3-4221-9EF9-E8245A8B06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A378B6C-377A-4281-AF38-7A9656380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8D626A87-9137-4AB4-A354-578F7DC6AFB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D7215E6-9AEA-457B-BDB0-098BA70E92F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024584B-1704-4F4F-A554-15A528F305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D4AC096-D64D-47F5-8291-4611A2F9983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96E3079-4181-4490-BE46-A1885D4786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2"/>
          </p:nvPr>
        </p:nvSpPr>
        <p:spPr/>
        <p:txBody>
          <a:bodyPr/>
          <a:p>
            <a:fld id="{355F7C04-0CB0-4D3D-9527-AB933E79A56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EB991A4-D447-4595-B319-B14E1339A2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A36AEA7-550B-4EBC-A779-119CCAE185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0353DD7-ABCA-4BA7-AE2C-C1F84582F8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94B9148-F4C5-4538-B69F-C9F5639307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002A532-E4BF-43C4-8E34-DE49F7CC8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1AEABC2-C10D-462F-9028-F4C817059D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3898031-67DF-424D-98F6-2433A5C935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410FF62-9BC0-4B71-BE3D-5AB8AE40B3A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03BA1D0-BC25-4DF4-991B-4C988F9410A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269E739-82BA-49C7-A2E3-ABBF4AA10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E80F957-BC14-4E9F-A8F3-BEF7BE21E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8E19D5A-A15A-47BB-BA81-3C245D032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4"/>
          </p:nvPr>
        </p:nvSpPr>
        <p:spPr/>
        <p:txBody>
          <a:bodyPr/>
          <a:p>
            <a:fld id="{A851DEE6-B2BB-4A4B-8FBF-E3ABE78F09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A32BA46E-1D2B-45DC-8FE0-FDDCC3BAED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029E53A-BE91-488E-94BD-D733EAB59E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1C19074-42C5-4296-90AD-55D98C686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53A4737-1956-4C86-8465-8C9BD31B5A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FB0BD55-1F10-40BF-BCE6-1A2830AB6F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08B2FE4-8A49-42C5-A0E8-24FC47D48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090412AB-2DAC-463D-BEB2-A0731DFF8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6D3A2439-9071-4693-872C-B2D6C72E4D2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86A01EB-A6F7-462D-B82E-BE77E03D1ED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8D50A71A-AF38-47A4-95E3-7F90BB6EBE6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BD2E3F22-94FB-4B80-972A-85D445F41B3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F8DC0D3C-A419-4E4C-88BD-C5A4A77553C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6"/>
          </p:nvPr>
        </p:nvSpPr>
        <p:spPr/>
        <p:txBody>
          <a:bodyPr/>
          <a:p>
            <a:fld id="{CAC1998A-D84A-40FB-A5F6-E810B98A95C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28F8522-7D3E-4357-8D5F-7D45A00F8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AD48DB72-5BDF-4371-B8BC-8A4C4552B4C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E16858E4-736F-4F15-B9F2-18159C6174A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E861DFE4-F70C-4830-8517-82B1E689F1C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B008435B-83F2-456D-99D3-15A9E2517FF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1F9AEC18-BC49-45F8-A151-FF9BD62A53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94919CB7-E617-486A-8D96-6503EE903A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3B4133CD-A42B-4562-A2A9-7377922A0F1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302F257-9205-4376-9378-B45BF93AA71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45459D28-4100-4BF6-BFBF-78691D25DB5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A2DF7A0E-AF83-4197-8A62-D0278C6F8423}"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CEA8-30CE-45FF-8CB0-1293E76A5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2" name="PlaceHolder 3"/>
          <p:cNvSpPr>
            <a:spLocks noGrp="1"/>
          </p:cNvSpPr>
          <p:nvPr>
            <p:ph type="dt" idx="19"/>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4"/>
          <p:cNvSpPr>
            <a:spLocks noGrp="1"/>
          </p:cNvSpPr>
          <p:nvPr>
            <p:ph type="sldNum" idx="20"/>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3366-01AA-4446-AE0D-ECC18D1E8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 name="PlaceHolder 3"/>
          <p:cNvSpPr>
            <a:spLocks noGrp="1"/>
          </p:cNvSpPr>
          <p:nvPr>
            <p:ph type="dt" idx="21"/>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4"/>
          <p:cNvSpPr>
            <a:spLocks noGrp="1"/>
          </p:cNvSpPr>
          <p:nvPr>
            <p:ph type="sldNum" idx="2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02B7-EB3F-4102-A791-4C9C7E5B8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2" name="PlaceHolder 3"/>
          <p:cNvSpPr>
            <a:spLocks noGrp="1"/>
          </p:cNvSpPr>
          <p:nvPr>
            <p:ph type="dt" idx="2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PlaceHolder 4"/>
          <p:cNvSpPr>
            <a:spLocks noGrp="1"/>
          </p:cNvSpPr>
          <p:nvPr>
            <p:ph type="sldNum" idx="2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2A95-A756-4A4F-8FCC-54031BF2D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2" name="PlaceHolder 3"/>
          <p:cNvSpPr>
            <a:spLocks noGrp="1"/>
          </p:cNvSpPr>
          <p:nvPr>
            <p:ph type="dt" idx="2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PlaceHolder 4"/>
          <p:cNvSpPr>
            <a:spLocks noGrp="1"/>
          </p:cNvSpPr>
          <p:nvPr>
            <p:ph type="sldNum" idx="2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4AA9-06B5-42F4-8986-68F5E0E19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dt" idx="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8154-45AF-465E-B854-80E763F4A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dt" idx="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PlaceHolder 4"/>
          <p:cNvSpPr>
            <a:spLocks noGrp="1"/>
          </p:cNvSpPr>
          <p:nvPr>
            <p:ph type="sldNum" idx="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3D3C-16E8-402B-BEEF-19A52734D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3"/>
          <p:cNvSpPr>
            <a:spLocks noGrp="1"/>
          </p:cNvSpPr>
          <p:nvPr>
            <p:ph type="dt" idx="7"/>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4"/>
          <p:cNvSpPr>
            <a:spLocks noGrp="1"/>
          </p:cNvSpPr>
          <p:nvPr>
            <p:ph type="sldNum" idx="8"/>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D5D0-EF4D-40B4-AD7E-D86052FF0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2" name="PlaceHolder 3"/>
          <p:cNvSpPr>
            <a:spLocks noGrp="1"/>
          </p:cNvSpPr>
          <p:nvPr>
            <p:ph type="dt" idx="9"/>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4"/>
          <p:cNvSpPr>
            <a:spLocks noGrp="1"/>
          </p:cNvSpPr>
          <p:nvPr>
            <p:ph type="sldNum" idx="10"/>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A473-DB93-4DE8-9CE7-2003D187F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 name="PlaceHolder 3"/>
          <p:cNvSpPr>
            <a:spLocks noGrp="1"/>
          </p:cNvSpPr>
          <p:nvPr>
            <p:ph type="dt" idx="11"/>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4"/>
          <p:cNvSpPr>
            <a:spLocks noGrp="1"/>
          </p:cNvSpPr>
          <p:nvPr>
            <p:ph type="sldNum" idx="1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C11D-DBFE-4D43-B0C3-3763358CE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 name="PlaceHolder 3"/>
          <p:cNvSpPr>
            <a:spLocks noGrp="1"/>
          </p:cNvSpPr>
          <p:nvPr>
            <p:ph type="dt" idx="1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4"/>
          <p:cNvSpPr>
            <a:spLocks noGrp="1"/>
          </p:cNvSpPr>
          <p:nvPr>
            <p:ph type="sldNum" idx="1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C042-9E9F-409A-AE04-4964D3500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3"/>
          <p:cNvSpPr>
            <a:spLocks noGrp="1"/>
          </p:cNvSpPr>
          <p:nvPr>
            <p:ph type="dt" idx="1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4"/>
          <p:cNvSpPr>
            <a:spLocks noGrp="1"/>
          </p:cNvSpPr>
          <p:nvPr>
            <p:ph type="sldNum" idx="1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387A-266B-4DB9-863B-2AC57884C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2" name="PlaceHolder 3"/>
          <p:cNvSpPr>
            <a:spLocks noGrp="1"/>
          </p:cNvSpPr>
          <p:nvPr>
            <p:ph type="dt" idx="17"/>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4"/>
          <p:cNvSpPr>
            <a:spLocks noGrp="1"/>
          </p:cNvSpPr>
          <p:nvPr>
            <p:ph type="sldNum" idx="18"/>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8951-A02D-4A5F-B754-8ADD8FCB3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4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4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AFC7-F381-4390-B476-A1E58EBC3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9" name="PlaceHolder 1"/>
          <p:cNvSpPr>
            <a:spLocks noGrp="1"/>
          </p:cNvSpPr>
          <p:nvPr>
            <p:ph type="title"/>
          </p:nvPr>
        </p:nvSpPr>
        <p:spPr>
          <a:xfrm>
            <a:off x="304920" y="83772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 Framework for Assessing Equity and Adequacy </a:t>
            </a:r>
            <a:br>
              <a:rPr sz="4800"/>
            </a:br>
            <a:r>
              <a:rPr b="0" lang="en-US" sz="4800" spc="-1" strike="noStrike">
                <a:solidFill>
                  <a:srgbClr val="3333cc"/>
                </a:solidFill>
                <a:latin typeface="Times New Roman"/>
              </a:rPr>
              <a:t>in School Finance </a:t>
            </a:r>
            <a:endParaRPr b="0" lang="en-US" sz="4800" spc="-1" strike="noStrike">
              <a:solidFill>
                <a:srgbClr val="3333cc"/>
              </a:solidFill>
              <a:latin typeface="Times New Roman"/>
            </a:endParaRPr>
          </a:p>
        </p:txBody>
      </p:sp>
      <p:sp>
        <p:nvSpPr>
          <p:cNvPr id="530" name="PlaceHolder 2"/>
          <p:cNvSpPr>
            <a:spLocks noGrp="1"/>
          </p:cNvSpPr>
          <p:nvPr>
            <p:ph/>
          </p:nvPr>
        </p:nvSpPr>
        <p:spPr>
          <a:xfrm>
            <a:off x="685800" y="4191120"/>
            <a:ext cx="7772400" cy="1295280"/>
          </a:xfrm>
          <a:prstGeom prst="rect">
            <a:avLst/>
          </a:prstGeom>
          <a:noFill/>
          <a:ln w="0">
            <a:noFill/>
          </a:ln>
        </p:spPr>
        <p:txBody>
          <a:bodyPr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a:t>
            </a:r>
            <a:r>
              <a:rPr b="0" lang="en-US" sz="2800" spc="-1" strike="noStrike">
                <a:solidFill>
                  <a:srgbClr val="000000"/>
                </a:solidFill>
                <a:latin typeface="Arial"/>
              </a:rPr>
              <a:t>4e</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D140-5F49-4D89-AD0E-014CB43962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pil Count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5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rollment – students enrolled as measured on a day, month, or whatever</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 – average daily membership – closer to an enrollment figur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 – average daily attendance – measure of number of students who attend school</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pupil counts – wada or wadm – give extra “weight” to students with special needs who require more help and thus expendi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6C2F-79A9-4902-9D3C-1AE738086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0"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 ante v. ex post analysis </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ory</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actice</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of analysi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ED9B-BF34-49E7-81F5-FBD8B5DE22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s of interest</a:t>
            </a:r>
            <a:endParaRPr b="0" lang="en-US" sz="32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cal variabl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al process variabl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size, curriculum, instructional practic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achievement variables </a:t>
            </a:r>
            <a:endParaRPr b="0" lang="en-US" sz="24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of concern</a:t>
            </a:r>
            <a:endParaRPr b="0" lang="en-US" sz="32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payers </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0BF1-4850-4DBD-9E0F-7D78E59BA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concepts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neutrality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equity</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equity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cy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adequacy also improves equit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66E9-A325-4F95-94EF-8842F9F53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609480" y="609120"/>
            <a:ext cx="78487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Neutrality</a:t>
            </a:r>
            <a:endParaRPr b="0" lang="en-US" sz="4400" spc="-1" strike="noStrike">
              <a:solidFill>
                <a:srgbClr val="3333cc"/>
              </a:solidFill>
              <a:latin typeface="Times New Roman"/>
            </a:endParaRPr>
          </a:p>
        </p:txBody>
      </p:sp>
      <p:sp>
        <p:nvSpPr>
          <p:cNvPr id="582" name="PlaceHolder 2"/>
          <p:cNvSpPr>
            <a:spLocks noGrp="1"/>
          </p:cNvSpPr>
          <p:nvPr>
            <p:ph/>
          </p:nvPr>
        </p:nvSpPr>
        <p:spPr>
          <a:xfrm>
            <a:off x="609480" y="1904760"/>
            <a:ext cx="7772400" cy="38862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objects (expenditures/revenues per pupil, etc.) cannot be a function of local wealth</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connection between property wealth per pupil (or family income) and objec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coefficient</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wealth elasticity (slop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is less than or equal to 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D03D-146F-495C-8BAF-E62FFCABD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o Fiscal Neutrality</a:t>
            </a:r>
            <a:endParaRPr b="0" lang="en-US" sz="4400" spc="-1" strike="noStrike">
              <a:solidFill>
                <a:srgbClr val="3333cc"/>
              </a:solidFill>
              <a:latin typeface="Times New Roman"/>
            </a:endParaRPr>
          </a:p>
        </p:txBody>
      </p:sp>
      <p:graphicFrame>
        <p:nvGraphicFramePr>
          <p:cNvPr id="586" name="Object 5"/>
          <p:cNvGraphicFramePr/>
          <p:nvPr/>
        </p:nvGraphicFramePr>
        <p:xfrm>
          <a:off x="1566720" y="1690560"/>
          <a:ext cx="6434280" cy="4405320"/>
        </p:xfrm>
        <a:graphic>
          <a:graphicData uri="http://schemas.openxmlformats.org/presentationml/2006/ole">
            <p:oleObj progId="Excel.Sheet.12" r:id="rId1" spid="">
              <p:embed/>
              <p:pic>
                <p:nvPicPr>
                  <p:cNvPr id="587" name="Object 5" descr=""/>
                  <p:cNvPicPr/>
                  <p:nvPr/>
                </p:nvPicPr>
                <p:blipFill>
                  <a:blip r:embed="rId2"/>
                  <a:stretch/>
                </p:blipFill>
                <p:spPr>
                  <a:xfrm>
                    <a:off x="1566720" y="1690560"/>
                    <a:ext cx="6434280" cy="44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910F-AA1D-4CDD-8934-8B31D1A68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Neutrality</a:t>
            </a:r>
            <a:endParaRPr b="0" lang="en-US" sz="4400" spc="-1" strike="noStrike">
              <a:solidFill>
                <a:srgbClr val="3333cc"/>
              </a:solidFill>
              <a:latin typeface="Times New Roman"/>
            </a:endParaRPr>
          </a:p>
        </p:txBody>
      </p:sp>
      <p:graphicFrame>
        <p:nvGraphicFramePr>
          <p:cNvPr id="591" name="Object 5"/>
          <p:cNvGraphicFramePr/>
          <p:nvPr/>
        </p:nvGraphicFramePr>
        <p:xfrm>
          <a:off x="1563840" y="1981080"/>
          <a:ext cx="6016320" cy="4114800"/>
        </p:xfrm>
        <a:graphic>
          <a:graphicData uri="http://schemas.openxmlformats.org/presentationml/2006/ole">
            <p:oleObj progId="Excel.Sheet.12" r:id="rId1" spid="">
              <p:embed/>
              <p:pic>
                <p:nvPicPr>
                  <p:cNvPr id="592" name="Object 5" descr=""/>
                  <p:cNvPicPr/>
                  <p:nvPr/>
                </p:nvPicPr>
                <p:blipFill>
                  <a:blip r:embed="rId2"/>
                  <a:stretch/>
                </p:blipFill>
                <p:spPr>
                  <a:xfrm>
                    <a:off x="1563840" y="1981080"/>
                    <a:ext cx="60163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2487-F1B9-4600-BC81-5EB8D32CE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596"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Highest minus Lowes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all observations</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measures two observ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liers not accounted f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to Inflation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BE43-3559-4C55-8A44-59093F121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600"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ed Range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Between Observation at 95th Percentile and 5th Percentile</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avoids problems of Outliers</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only two observ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to Inflation</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to Range, but Still not Grea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933A-60DB-4479-8CDC-FD868CB4F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3"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604"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Range Rat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95th - 5th</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th</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es how much larger the observation at the 95th percentile is than the observation at the 5th percentil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03FF-9332-40D0-B53C-DD871DFA1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Defining &amp; Measuring School Finance Equity &amp; Adequacy</a:t>
            </a:r>
            <a:endParaRPr b="0" lang="en-US" sz="4800" spc="-1" strike="noStrike">
              <a:solidFill>
                <a:srgbClr val="3333cc"/>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s about Public School Revenues, Expenditures and Pupil Counts</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ne &amp; Stiefel’s Updated Equity Framework</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of School Finance Equity and Adequacy</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Determining School Finance Adequacy</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E2BB-897A-48FE-9F85-A751D8C6B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sp>
        <p:nvSpPr>
          <p:cNvPr id="6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V = STD / Me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s the amount of variation around the me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expressed as a percent</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0.1 = 10%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7% of values within 1 S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of values within 2 S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E038-7BA7-4D38-9EB6-82FAB1FA74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graphicFrame>
        <p:nvGraphicFramePr>
          <p:cNvPr id="612" name="Object 5"/>
          <p:cNvGraphicFramePr/>
          <p:nvPr/>
        </p:nvGraphicFramePr>
        <p:xfrm>
          <a:off x="1447920" y="2057400"/>
          <a:ext cx="6026040" cy="3367080"/>
        </p:xfrm>
        <a:graphic>
          <a:graphicData uri="http://schemas.openxmlformats.org/presentationml/2006/ole">
            <p:oleObj progId="Word.Document.12" r:id="rId1" spid="">
              <p:embed/>
              <p:pic>
                <p:nvPicPr>
                  <p:cNvPr id="613" name="Object 5" descr=""/>
                  <p:cNvPicPr/>
                  <p:nvPr/>
                </p:nvPicPr>
                <p:blipFill>
                  <a:blip r:embed="rId2"/>
                  <a:stretch/>
                </p:blipFill>
                <p:spPr>
                  <a:xfrm>
                    <a:off x="1447920" y="2057400"/>
                    <a:ext cx="6026040" cy="33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620D-506F-4640-B0ED-500846E1E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sp>
        <p:nvSpPr>
          <p:cNvPr id="6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s</a:t>
            </a:r>
            <a:endParaRPr b="0" lang="en-US" sz="22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s all values in the data set</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not change with inflation</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to understand</a:t>
            </a:r>
            <a:endParaRPr b="0" lang="en-US" sz="1800" spc="-1" strike="noStrike">
              <a:solidFill>
                <a:srgbClr val="000000"/>
              </a:solidFill>
              <a:latin typeface="Times New Roman"/>
            </a:endParaRPr>
          </a:p>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a:t>
            </a:r>
            <a:endParaRPr b="0" lang="en-US" sz="22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the value that determines a fair or equitable distribution? </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 relative or absolute standard?</a:t>
            </a:r>
            <a:endParaRPr b="0" lang="en-US" sz="1800" spc="-1" strike="noStrike">
              <a:solidFill>
                <a:srgbClr val="000000"/>
              </a:solidFill>
              <a:latin typeface="Times New Roman"/>
            </a:endParaRPr>
          </a:p>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suggest a target goal of 0.1 (absolute standard)</a:t>
            </a:r>
            <a:endParaRPr b="0" lang="en-US" sz="22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D =10% of average</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xample: If average is $7,000:</a:t>
            </a:r>
            <a:endParaRPr b="0" lang="en-US" sz="1900" spc="-1" strike="noStrike">
              <a:solidFill>
                <a:srgbClr val="000000"/>
              </a:solidFill>
              <a:latin typeface="Times New Roman"/>
            </a:endParaRPr>
          </a:p>
          <a:p>
            <a:pPr lvl="2" marL="1143000" indent="-228600">
              <a:lnSpc>
                <a:spcPct val="90000"/>
              </a:lnSpc>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3 of values will be between $6,300 and $7,700</a:t>
            </a:r>
            <a:endParaRPr b="0" lang="en-US" sz="1700" spc="-1" strike="noStrike">
              <a:solidFill>
                <a:srgbClr val="000000"/>
              </a:solidFill>
              <a:latin typeface="Times New Roman"/>
            </a:endParaRPr>
          </a:p>
          <a:p>
            <a:pPr lvl="2" marL="1143000" indent="-228600">
              <a:lnSpc>
                <a:spcPct val="90000"/>
              </a:lnSpc>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5% of values will be between $5,600 and $8,400</a:t>
            </a:r>
            <a:endParaRPr b="0" lang="en-US" sz="1700" spc="-1" strike="noStrike">
              <a:solidFill>
                <a:srgbClr val="000000"/>
              </a:solidFill>
              <a:latin typeface="Times New Roman"/>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F16F-C022-4D1D-8656-E01435129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ini Coefficient</a:t>
            </a:r>
            <a:endParaRPr b="0" lang="en-US" sz="4400" spc="-1" strike="noStrike">
              <a:solidFill>
                <a:srgbClr val="3333cc"/>
              </a:solidFill>
              <a:latin typeface="Times New Roman"/>
            </a:endParaRPr>
          </a:p>
        </p:txBody>
      </p:sp>
      <p:sp>
        <p:nvSpPr>
          <p:cNvPr id="62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Value of Gini:</a:t>
            </a:r>
            <a:endParaRPr b="0" lang="en-US" sz="3300" spc="-1" strike="noStrike">
              <a:solidFill>
                <a:srgbClr val="000000"/>
              </a:solidFill>
              <a:latin typeface="Times New Roman"/>
            </a:endParaRPr>
          </a:p>
          <a:p>
            <a:pPr marL="3394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 / (A+B)</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Value ranges from 0 to 1</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Smaller Values Represent Greater Equity </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expenditures are completely equal, A = 0 and the Gini Coefficient becomes 0</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im for 0.5</a:t>
            </a:r>
            <a:endParaRPr b="0" lang="en-US" sz="3300" spc="-1" strike="noStrike">
              <a:solidFill>
                <a:srgbClr val="000000"/>
              </a:solidFill>
              <a:latin typeface="Times New Roman"/>
            </a:endParaRPr>
          </a:p>
          <a:p>
            <a:pPr marL="3394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B49A-59E4-4386-8073-234D197E5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ini Coefficient</a:t>
            </a:r>
            <a:endParaRPr b="0" lang="en-US" sz="4400" spc="-1" strike="noStrike">
              <a:solidFill>
                <a:srgbClr val="3333cc"/>
              </a:solidFill>
              <a:latin typeface="Times New Roman"/>
            </a:endParaRPr>
          </a:p>
        </p:txBody>
      </p:sp>
      <p:graphicFrame>
        <p:nvGraphicFramePr>
          <p:cNvPr id="625" name="Object 5"/>
          <p:cNvGraphicFramePr/>
          <p:nvPr/>
        </p:nvGraphicFramePr>
        <p:xfrm>
          <a:off x="1828800" y="2590920"/>
          <a:ext cx="5491080" cy="2698560"/>
        </p:xfrm>
        <a:graphic>
          <a:graphicData uri="http://schemas.openxmlformats.org/presentationml/2006/ole">
            <p:oleObj progId="Word.Document.12" r:id="rId1" spid="">
              <p:embed/>
              <p:pic>
                <p:nvPicPr>
                  <p:cNvPr id="626" name="Object 5" descr=""/>
                  <p:cNvPicPr/>
                  <p:nvPr/>
                </p:nvPicPr>
                <p:blipFill>
                  <a:blip r:embed="rId2"/>
                  <a:stretch/>
                </p:blipFill>
                <p:spPr>
                  <a:xfrm>
                    <a:off x="1828800" y="2590920"/>
                    <a:ext cx="5491080" cy="26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98A8-4362-4256-8CD6-EC2CED3DD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cLoone Index</a:t>
            </a:r>
            <a:endParaRPr b="0" lang="en-US" sz="4400" spc="-1" strike="noStrike">
              <a:solidFill>
                <a:srgbClr val="3333cc"/>
              </a:solidFill>
              <a:latin typeface="Times New Roman"/>
            </a:endParaRPr>
          </a:p>
        </p:txBody>
      </p:sp>
      <p:sp>
        <p:nvSpPr>
          <p:cNvPr id="6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to School Financ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Equity for the Bottom Part of the Distribution</a:t>
            </a:r>
            <a:endParaRPr b="0" lang="en-US" sz="3200" spc="-1" strike="noStrike">
              <a:solidFill>
                <a:srgbClr val="000000"/>
              </a:solidFill>
              <a:latin typeface="Times New Roman"/>
            </a:endParaRPr>
          </a:p>
          <a:p>
            <a:pPr marL="343080" indent="-343080">
              <a:lnSpc>
                <a:spcPct val="8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Ratio of the Sum of the values of all observations below the median to the corresponding sum if all observations had the value of the medi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of 1 means perfect equ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0DEC-F294-4B7A-B679-38E9E8389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cLoone Index</a:t>
            </a:r>
            <a:endParaRPr b="0" lang="en-US" sz="4400" spc="-1" strike="noStrike">
              <a:solidFill>
                <a:srgbClr val="3333cc"/>
              </a:solidFill>
              <a:latin typeface="Times New Roman"/>
            </a:endParaRPr>
          </a:p>
        </p:txBody>
      </p:sp>
      <p:sp>
        <p:nvSpPr>
          <p:cNvPr id="6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eps to calculate</a:t>
            </a:r>
            <a:endParaRPr b="0" lang="en-US" sz="29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data by revenue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edian student and the revenues going to that student (Median rev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district with revenues below the median: </a:t>
            </a:r>
            <a:endParaRPr b="0" lang="en-US" sz="24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 = (#students x District Revs)</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 ((#students x Median Revs)</a:t>
            </a:r>
            <a:endParaRPr b="0" lang="en-US" sz="2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 N &amp; D for each district below the median</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 N/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3D71-2FCE-4AF9-BFDB-E1C8FC775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Verstegen Index</a:t>
            </a:r>
            <a:endParaRPr b="0" lang="en-US" sz="4400" spc="-1" strike="noStrike">
              <a:solidFill>
                <a:srgbClr val="3333cc"/>
              </a:solidFill>
              <a:latin typeface="Times New Roman"/>
            </a:endParaRPr>
          </a:p>
        </p:txBody>
      </p:sp>
      <p:sp>
        <p:nvSpPr>
          <p:cNvPr id="6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ly the opposite or symmetrical version of McLoone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inequity of the distribution for districts spending above the medi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l measure would be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83E6-2ECA-4D0B-B4D2-0196246EB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1" name="PlaceHolder 1"/>
          <p:cNvSpPr>
            <a:spLocks noGrp="1"/>
          </p:cNvSpPr>
          <p:nvPr>
            <p:ph type="title"/>
          </p:nvPr>
        </p:nvSpPr>
        <p:spPr>
          <a:xfrm>
            <a:off x="533160" y="6091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Vertical Equity</a:t>
            </a:r>
            <a:endParaRPr b="0" lang="en-US" sz="4000" spc="-1" strike="noStrike">
              <a:solidFill>
                <a:srgbClr val="3333cc"/>
              </a:solidFill>
              <a:latin typeface="Times New Roman"/>
            </a:endParaRPr>
          </a:p>
        </p:txBody>
      </p:sp>
      <p:sp>
        <p:nvSpPr>
          <p:cNvPr id="642" name="PlaceHolder 2"/>
          <p:cNvSpPr>
            <a:spLocks noGrp="1"/>
          </p:cNvSpPr>
          <p:nvPr>
            <p:ph/>
          </p:nvPr>
        </p:nvSpPr>
        <p:spPr>
          <a:xfrm>
            <a:off x="609120" y="1447560"/>
            <a:ext cx="7743960" cy="464796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varying student (low income, disability, English proficiency), district (large or small size, price differences) or school needs (size,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er can be addressed with pupil weights that indicate degree of additional need, or by categorical program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make size adjustments but controversial</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have geographic price indices, b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B59A-7348-4F15-8A79-237DF6D9C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ing Equity with Vertical Equity Adjustments</a:t>
            </a:r>
            <a:endParaRPr b="0" lang="en-US" sz="4400" spc="-1" strike="noStrike">
              <a:solidFill>
                <a:srgbClr val="3333cc"/>
              </a:solidFill>
              <a:latin typeface="Times New Roman"/>
            </a:endParaRPr>
          </a:p>
        </p:txBody>
      </p:sp>
      <p:sp>
        <p:nvSpPr>
          <p:cNvPr id="646"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lude state and federal categorical  programs when calculating fiscal neutrality or horizontal equity statistic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state and federal categorical programs but then weight the student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ctual state weights  O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eights from research (GAO; Odden, Busch and Kucharz, WI research) – 1.9 for disabled, 1.25 for low income and LEP are the common pupil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BE1D-BBA3-402C-A5E1-B424A0AB3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38" name="PlaceHolder 2"/>
          <p:cNvSpPr>
            <a:spLocks noGrp="1"/>
          </p:cNvSpPr>
          <p:nvPr>
            <p:ph/>
          </p:nvPr>
        </p:nvSpPr>
        <p:spPr>
          <a:xfrm>
            <a:off x="609120" y="1676520"/>
            <a:ext cx="774396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 primarily from local (42%) and state (51%) sources, with about 7 % from the federal government</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revenues derive from a variety of state taxes – income both personal and corporate, sales, fees.  </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rarely dedicate any tax or portion thereof to education.  When they do, it is only small amou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8BEBC-0291-4C9B-9D3B-395944296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dden Picus Adequacy Index</a:t>
            </a:r>
            <a:endParaRPr b="0" lang="en-US" sz="4400" spc="-1" strike="noStrike">
              <a:solidFill>
                <a:srgbClr val="3333cc"/>
              </a:solidFill>
              <a:latin typeface="Times New Roman"/>
            </a:endParaRPr>
          </a:p>
        </p:txBody>
      </p:sp>
      <p:sp>
        <p:nvSpPr>
          <p:cNvPr id="6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cLoone type computation to get at funds required to reach adequacy </a:t>
            </a:r>
            <a:endParaRPr b="0" lang="en-US" sz="29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dequate” spending level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percent of students </a:t>
            </a:r>
            <a:r>
              <a:rPr b="0" lang="en-US" sz="2400" spc="-1" strike="noStrike">
                <a:solidFill>
                  <a:srgbClr val="f60623"/>
                </a:solidFill>
                <a:latin typeface="Times New Roman"/>
              </a:rPr>
              <a:t>above</a:t>
            </a:r>
            <a:r>
              <a:rPr b="0" lang="en-US" sz="2400" spc="-1" strike="noStrike">
                <a:solidFill>
                  <a:srgbClr val="000000"/>
                </a:solidFill>
                <a:latin typeface="Times New Roman"/>
              </a:rPr>
              <a:t> that level=A</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a McLoone ratio but using the </a:t>
            </a:r>
            <a:r>
              <a:rPr b="0" lang="en-US" sz="2400" spc="-1" strike="noStrike">
                <a:solidFill>
                  <a:srgbClr val="f60623"/>
                </a:solidFill>
                <a:latin typeface="Times New Roman"/>
              </a:rPr>
              <a:t>adequate</a:t>
            </a:r>
            <a:r>
              <a:rPr b="0" lang="en-US" sz="2400" spc="-1" strike="noStrike">
                <a:solidFill>
                  <a:srgbClr val="000000"/>
                </a:solidFill>
                <a:latin typeface="Times New Roman"/>
              </a:rPr>
              <a:t> level rather than the median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by the percent below adequacy level =B</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 + B </a:t>
            </a:r>
            <a:endParaRPr b="0" lang="en-US" sz="2400" spc="-1" strike="noStrike">
              <a:solidFill>
                <a:srgbClr val="000000"/>
              </a:solidFill>
              <a:latin typeface="Times New Roman"/>
            </a:endParaRPr>
          </a:p>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e Example on next slid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CFA0-0CA6-4DB9-BD72-41319946C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dden Picus Adequacy Index</a:t>
            </a:r>
            <a:endParaRPr b="0" lang="en-US" sz="4400" spc="-1" strike="noStrike">
              <a:solidFill>
                <a:srgbClr val="3333cc"/>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60% above adequate level </a:t>
            </a:r>
            <a:endParaRPr b="0" lang="en-US" sz="29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cLoone type computation is 0.8</a:t>
            </a:r>
            <a:endParaRPr b="0" lang="en-US" sz="29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ultiply by percent below adequate </a:t>
            </a:r>
            <a:endParaRPr b="0" lang="en-US" sz="29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 x 0.4 = 0.32 </a:t>
            </a:r>
            <a:endParaRPr b="0" lang="en-US" sz="24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dd to percent above adequate level</a:t>
            </a:r>
            <a:endParaRPr b="0" lang="en-US" sz="29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AI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0.32 + 0.60 = 0.92 </a:t>
            </a:r>
            <a:endParaRPr b="0" lang="en-US" sz="24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Revenue increase of 8% to districts below adequacy level would fund adequacy for all districts </a:t>
            </a:r>
            <a:endParaRPr b="0" lang="en-US" sz="2900" spc="-1" strike="noStrike">
              <a:solidFill>
                <a:srgbClr val="000000"/>
              </a:solidFill>
              <a:latin typeface="Times New Roman"/>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6B5A-DB4D-4D79-AFA9-DE66DE199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152280" y="228240"/>
            <a:ext cx="87631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pproaches to Determining an </a:t>
            </a:r>
            <a:br>
              <a:rPr sz="4400"/>
            </a:br>
            <a:r>
              <a:rPr b="0" lang="en-US" sz="4400" spc="-1" strike="noStrike">
                <a:solidFill>
                  <a:srgbClr val="3333cc"/>
                </a:solidFill>
                <a:latin typeface="Times New Roman"/>
              </a:rPr>
              <a:t>Adequate Fiscal Base</a:t>
            </a:r>
            <a:endParaRPr b="0" lang="en-US" sz="4400" spc="-1" strike="noStrike">
              <a:solidFill>
                <a:srgbClr val="3333cc"/>
              </a:solidFill>
              <a:latin typeface="Times New Roman"/>
            </a:endParaRPr>
          </a:p>
        </p:txBody>
      </p:sp>
      <p:sp>
        <p:nvSpPr>
          <p:cNvPr id="658"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could argue this is THE school finance research issue toda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currently, there are many approache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district approach – expenditures where students meet performance targets (IL, OH, K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cost function – research NY, WI, TX, IL, NB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judgment on quality inputs – WY, WI, MD, KY, SC, NY, MS, NB, KS, MT –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generation approaches needed</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based approach – NJ, KY, AR, AZ, WY – and in the future, other possibilities, including W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5D80-DAA4-48AB-827B-69FA6548B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pproaches to Determining an </a:t>
            </a:r>
            <a:br>
              <a:rPr sz="4400"/>
            </a:br>
            <a:r>
              <a:rPr b="0" lang="en-US" sz="4400" spc="-1" strike="noStrike">
                <a:solidFill>
                  <a:srgbClr val="3333cc"/>
                </a:solidFill>
                <a:latin typeface="Times New Roman"/>
              </a:rPr>
              <a:t>Adequate Fiscal Base</a:t>
            </a:r>
            <a:endParaRPr b="0" lang="en-US" sz="4400" spc="-1" strike="noStrike">
              <a:solidFill>
                <a:srgbClr val="3333cc"/>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district and cost function approaches produce an expenditure number but no information on how the dollars would be used</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judgment and evidence-based approaches provide both an expenditure number and information on how the dollars could be used, or at least how the expenditure number was determ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4838-47B3-436B-93F6-EF911BC43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685800" y="22824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uccessful District</a:t>
            </a:r>
            <a:endParaRPr b="0" lang="en-US" sz="4400" spc="-1" strike="noStrike">
              <a:solidFill>
                <a:srgbClr val="3333cc"/>
              </a:solidFill>
              <a:latin typeface="Times New Roman"/>
            </a:endParaRPr>
          </a:p>
        </p:txBody>
      </p:sp>
      <p:sp>
        <p:nvSpPr>
          <p:cNvPr id="666" name="PlaceHolder 2"/>
          <p:cNvSpPr>
            <a:spLocks noGrp="1"/>
          </p:cNvSpPr>
          <p:nvPr>
            <p:ph/>
          </p:nvPr>
        </p:nvSpPr>
        <p:spPr>
          <a:xfrm>
            <a:off x="304560" y="1447560"/>
            <a:ext cx="8305560" cy="480060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se expenditure and achievement data to identify “successful” districts -- districts that produce desired results</a:t>
            </a:r>
            <a:endParaRPr b="0" lang="en-US" sz="21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liminate “unusual” districts from analysis – very high wealth, very large, very small, very high spending, etc.</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rom the reduced universe, find districts that actually produce the performance desired, e.g., have &gt;70% of children scoring at or above proficiency on the state test</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lculate a “weighted average” of the expenditures per pupil for these districts, as well as their average SES characteristics -- % minority, % poverty (usually free and reduced price lunch), % ELL, etc.</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ume that if these districts can meet a state performance benchmark, other districts could too</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se the calculated expenditure as the expenditure in a foundation school finance formula</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djust the calculated expenditure per pupil for the special needs of other districts – small rural, sparse, large urban, etc.</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8918-BF55-4C4A-A396-C202363C7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9" name="PlaceHolder 1"/>
          <p:cNvSpPr>
            <a:spLocks noGrp="1"/>
          </p:cNvSpPr>
          <p:nvPr>
            <p:ph type="title"/>
          </p:nvPr>
        </p:nvSpPr>
        <p:spPr>
          <a:xfrm>
            <a:off x="914040" y="304560"/>
            <a:ext cx="741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uccessful District</a:t>
            </a:r>
            <a:endParaRPr b="0" lang="en-US" sz="4400" spc="-1" strike="noStrike">
              <a:solidFill>
                <a:srgbClr val="3333cc"/>
              </a:solidFill>
              <a:latin typeface="Times New Roman"/>
            </a:endParaRPr>
          </a:p>
        </p:txBody>
      </p:sp>
      <p:sp>
        <p:nvSpPr>
          <p:cNvPr id="670" name="PlaceHolder 2"/>
          <p:cNvSpPr>
            <a:spLocks noGrp="1"/>
          </p:cNvSpPr>
          <p:nvPr>
            <p:ph/>
          </p:nvPr>
        </p:nvSpPr>
        <p:spPr>
          <a:xfrm>
            <a:off x="304560" y="1447560"/>
            <a:ext cx="8305560" cy="4800600"/>
          </a:xfrm>
          <a:prstGeom prst="rect">
            <a:avLst/>
          </a:prstGeom>
          <a:noFill/>
          <a:ln w="0">
            <a:noFill/>
          </a:ln>
        </p:spPr>
        <p:txBody>
          <a:bodyPr anchor="t">
            <a:normAutofit/>
          </a:bodyPr>
          <a:p>
            <a:pPr marL="343080" indent="-343080">
              <a:lnSpc>
                <a:spcPct val="8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vantages: </a:t>
            </a:r>
            <a:endParaRPr b="0" lang="en-US" sz="21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rovides a clear link between a $/PUPIL level and a result level</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latively simple and straightforward – policymakers can understand the metho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raws from actual state districts</a:t>
            </a:r>
            <a:endParaRPr b="0" lang="en-US" sz="1900" spc="-1" strike="noStrike">
              <a:solidFill>
                <a:srgbClr val="000000"/>
              </a:solidFill>
              <a:latin typeface="Times New Roman"/>
            </a:endParaRPr>
          </a:p>
          <a:p>
            <a:pPr marL="343080" indent="-343080">
              <a:lnSpc>
                <a:spcPct val="8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advantages: </a:t>
            </a:r>
            <a:endParaRPr b="0" lang="en-US" sz="21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o many “atypical” districts excluded from analysis</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uccessful districts are usually relatively homogeneous, “urban”/ rural districts</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sults are difficult to “adjust” for larger (&gt;2500 students) urban and poorer rural areas, and thus often are hotly debate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sults can be manipulate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lso does not identify the educational delivery system</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s not now being used by any state – disadvantages have led to too much controversy</a:t>
            </a:r>
            <a:endParaRPr b="0" lang="en-US" sz="1900" spc="-1" strike="noStrike">
              <a:solidFill>
                <a:srgbClr val="000000"/>
              </a:solidFill>
              <a:latin typeface="Times New Roman"/>
            </a:endParaRPr>
          </a:p>
          <a:p>
            <a:pPr lvl="3" marL="16002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9361-A15A-472A-949D-7EFF2CD98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3"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st Function</a:t>
            </a:r>
            <a:endParaRPr b="0" lang="en-US" sz="4400" spc="-1" strike="noStrike">
              <a:solidFill>
                <a:srgbClr val="3333cc"/>
              </a:solidFill>
              <a:latin typeface="Times New Roman"/>
            </a:endParaRPr>
          </a:p>
        </p:txBody>
      </p:sp>
      <p:sp>
        <p:nvSpPr>
          <p:cNvPr id="674" name="PlaceHolder 2"/>
          <p:cNvSpPr>
            <a:spLocks noGrp="1"/>
          </p:cNvSpPr>
          <p:nvPr>
            <p:ph/>
          </p:nvPr>
        </p:nvSpPr>
        <p:spPr>
          <a:xfrm>
            <a:off x="304560" y="1371240"/>
            <a:ext cx="8458200" cy="4343400"/>
          </a:xfrm>
          <a:prstGeom prst="rect">
            <a:avLst/>
          </a:prstGeom>
          <a:noFill/>
          <a:ln w="0">
            <a:noFill/>
          </a:ln>
        </p:spPr>
        <p:txBody>
          <a:bodyPr anchor="t">
            <a:normAutofit fontScale="98000"/>
          </a:bodyPr>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pproach using regression analysis to identify the cost ($/pupil) to produce an outcome</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t variable:  expenditures per pupil, which can be used as the foundation expenditure</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variables: characteristics of students and districts (% disabled, % ELL, % poverty, size, sparsity, geographic price indices, performance level desired, etc.)</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expenditure varies with performance level</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an overall “cost” adjustment to account for district and student needs</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are simple:  an average expenditure and an overall cost adjus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84FA-7F70-4600-81FA-E63553C98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Function</a:t>
            </a:r>
            <a:endParaRPr b="0" lang="en-US" sz="4000" spc="-1" strike="noStrike">
              <a:solidFill>
                <a:srgbClr val="3333cc"/>
              </a:solidFill>
              <a:latin typeface="Times New Roman"/>
            </a:endParaRPr>
          </a:p>
        </p:txBody>
      </p:sp>
      <p:sp>
        <p:nvSpPr>
          <p:cNvPr id="678" name="PlaceHolder 2"/>
          <p:cNvSpPr>
            <a:spLocks noGrp="1"/>
          </p:cNvSpPr>
          <p:nvPr>
            <p:ph/>
          </p:nvPr>
        </p:nvSpPr>
        <p:spPr>
          <a:xfrm>
            <a:off x="609480" y="1218960"/>
            <a:ext cx="8229600" cy="4647960"/>
          </a:xfrm>
          <a:prstGeom prst="rect">
            <a:avLst/>
          </a:prstGeom>
          <a:noFill/>
          <a:ln w="0">
            <a:noFill/>
          </a:ln>
        </p:spPr>
        <p:txBody>
          <a:bodyPr anchor="t">
            <a:normAutofit fontScale="97000"/>
          </a:bodyPr>
          <a:p>
            <a:pPr marL="332640" indent="-33264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a:t>
            </a:r>
            <a:endParaRPr b="0" lang="en-US" sz="28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links a cost level to a result level</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phisticated</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for most key factors that impact costs</a:t>
            </a:r>
            <a:endParaRPr b="0" lang="en-US" sz="2400" spc="-1" strike="noStrike">
              <a:solidFill>
                <a:srgbClr val="000000"/>
              </a:solidFill>
              <a:latin typeface="Times New Roman"/>
            </a:endParaRPr>
          </a:p>
          <a:p>
            <a:pPr marL="332640" indent="-33264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a:t>
            </a:r>
            <a:endParaRPr b="0" lang="en-US" sz="28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cated: few policymakers understand or trust the methodology and not used in any state</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cholars question the methodology</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dollar amount but no indication of a delivery strategy</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ssumes no resource reallocation of existing resources</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ge increments for low income/ELL students – 4 +</a:t>
            </a:r>
            <a:endParaRPr b="0" lang="en-US" sz="2400" spc="-1" strike="noStrike">
              <a:solidFill>
                <a:srgbClr val="000000"/>
              </a:solidFill>
              <a:latin typeface="Times New Roman"/>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s the average for Milwauk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06E9-49CC-4E4C-A579-57AF25622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1" name="PlaceHolder 1"/>
          <p:cNvSpPr>
            <a:spLocks noGrp="1"/>
          </p:cNvSpPr>
          <p:nvPr>
            <p:ph type="title"/>
          </p:nvPr>
        </p:nvSpPr>
        <p:spPr>
          <a:xfrm>
            <a:off x="228600" y="274680"/>
            <a:ext cx="86868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ext Two Approaches get inside the “Black Box” of Schools</a:t>
            </a:r>
            <a:endParaRPr b="0" lang="en-US" sz="4400" spc="-1" strike="noStrike">
              <a:solidFill>
                <a:srgbClr val="3333cc"/>
              </a:solidFill>
              <a:latin typeface="Times New Roman"/>
            </a:endParaRPr>
          </a:p>
        </p:txBody>
      </p:sp>
      <p:sp>
        <p:nvSpPr>
          <p:cNvPr id="682" name="PlaceHolder 2"/>
          <p:cNvSpPr>
            <a:spLocks noGrp="1"/>
          </p:cNvSpPr>
          <p:nvPr>
            <p:ph/>
          </p:nvPr>
        </p:nvSpPr>
        <p:spPr>
          <a:xfrm>
            <a:off x="380520" y="1600200"/>
            <a:ext cx="8458200" cy="4191120"/>
          </a:xfrm>
          <a:prstGeom prst="rect">
            <a:avLst/>
          </a:prstGeom>
          <a:noFill/>
          <a:ln w="0">
            <a:noFill/>
          </a:ln>
        </p:spPr>
        <p:txBody>
          <a:bodyPr anchor="t">
            <a:normAutofit/>
          </a:bodyPr>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the educational delivery strategies that can produce the desired results</a:t>
            </a:r>
            <a:endParaRPr b="0" lang="en-US" sz="2200" spc="-1" strike="noStrike">
              <a:solidFill>
                <a:srgbClr val="000000"/>
              </a:solidFill>
              <a:latin typeface="Times New Roman"/>
            </a:endParaRPr>
          </a:p>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s creating detailed specifications of resources needed to support the delivery strategies</a:t>
            </a:r>
            <a:endParaRPr b="0" lang="en-US" sz="2200" spc="-1" strike="noStrike">
              <a:solidFill>
                <a:srgbClr val="000000"/>
              </a:solidFill>
              <a:latin typeface="Times New Roman"/>
            </a:endParaRPr>
          </a:p>
          <a:p>
            <a:pPr lvl="1" marL="743040" indent="-28584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the school level </a:t>
            </a:r>
            <a:endParaRPr b="0" lang="en-US" sz="22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prototypic designs for each of elementary, middle and high schools</a:t>
            </a:r>
            <a:endParaRPr b="0" lang="en-US" sz="1800" spc="-1" strike="noStrike">
              <a:solidFill>
                <a:srgbClr val="000000"/>
              </a:solidFill>
              <a:latin typeface="Times New Roman"/>
            </a:endParaRPr>
          </a:p>
          <a:p>
            <a:pPr lvl="1" marL="743040" indent="-28584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the degree possible, the designs must be supported by research and evidence-based best practices that produce improvements in student learning</a:t>
            </a:r>
            <a:endParaRPr b="0" lang="en-US" sz="2200" spc="-1" strike="noStrike">
              <a:solidFill>
                <a:srgbClr val="000000"/>
              </a:solidFill>
              <a:latin typeface="Times New Roman"/>
            </a:endParaRPr>
          </a:p>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ch more detailed specifications and costing than are included in most general education reform recommend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1AC3-E093-4C73-8005-0D7DD937B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5" name="PlaceHolder 1"/>
          <p:cNvSpPr>
            <a:spLocks noGrp="1"/>
          </p:cNvSpPr>
          <p:nvPr>
            <p:ph type="title"/>
          </p:nvPr>
        </p:nvSpPr>
        <p:spPr>
          <a:xfrm>
            <a:off x="685800" y="5331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fessional Judgment</a:t>
            </a:r>
            <a:endParaRPr b="0" lang="en-US" sz="4400" spc="-1" strike="noStrike">
              <a:solidFill>
                <a:srgbClr val="3333cc"/>
              </a:solidFill>
              <a:latin typeface="Times New Roman"/>
            </a:endParaRPr>
          </a:p>
        </p:txBody>
      </p:sp>
      <p:sp>
        <p:nvSpPr>
          <p:cNvPr id="686" name="PlaceHolder 2"/>
          <p:cNvSpPr>
            <a:spLocks noGrp="1"/>
          </p:cNvSpPr>
          <p:nvPr>
            <p:ph/>
          </p:nvPr>
        </p:nvSpPr>
        <p:spPr>
          <a:xfrm>
            <a:off x="457200" y="1447920"/>
            <a:ext cx="7848720" cy="4419360"/>
          </a:xfrm>
          <a:prstGeom prst="rect">
            <a:avLst/>
          </a:prstGeom>
          <a:noFill/>
          <a:ln w="0">
            <a:noFill/>
          </a:ln>
        </p:spPr>
        <p:txBody>
          <a:bodyPr anchor="t">
            <a:normAutofit/>
          </a:bodyPr>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ducation professionals make judgments on what is needed at the school level to teach students to proficiency standard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nels of teachers and administrators identify the resource needs for prototypical elementary, middle and high school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te panels review and revise the proposals of various local/regional panel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te panels also create prototypical district desig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A5A2-56EB-47B6-B6A9-8350B57F2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42" name="PlaceHolder 2"/>
          <p:cNvSpPr>
            <a:spLocks noGrp="1"/>
          </p:cNvSpPr>
          <p:nvPr>
            <p:ph/>
          </p:nvPr>
        </p:nvSpPr>
        <p:spPr>
          <a:xfrm>
            <a:off x="837720" y="1676520"/>
            <a:ext cx="774396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revenues derive largely from local property taxe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property taxes are a result of a property tax rate – %, dollars per hundred, mills – levied against a property tax bas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al property tax base is assessed value of property</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s or yield is the product of the rate times the base – see Chapter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B109-3834-4147-B261-02DDF6A99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9" name="PlaceHolder 1"/>
          <p:cNvSpPr>
            <a:spLocks noGrp="1"/>
          </p:cNvSpPr>
          <p:nvPr>
            <p:ph type="title"/>
          </p:nvPr>
        </p:nvSpPr>
        <p:spPr>
          <a:xfrm>
            <a:off x="901800" y="533160"/>
            <a:ext cx="7269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fessional Judgment</a:t>
            </a:r>
            <a:endParaRPr b="0" lang="en-US" sz="4400" spc="-1" strike="noStrike">
              <a:solidFill>
                <a:srgbClr val="3333cc"/>
              </a:solidFill>
              <a:latin typeface="Times New Roman"/>
            </a:endParaRPr>
          </a:p>
        </p:txBody>
      </p:sp>
      <p:sp>
        <p:nvSpPr>
          <p:cNvPr id="690"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dvantages: </a:t>
            </a:r>
            <a:endParaRPr b="0" lang="en-US" sz="25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aws from the expertise of the best educators in the state, and perhaps from around the country</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posals tailored to the state context</a:t>
            </a:r>
            <a:endParaRPr b="0" lang="en-US" sz="2200" spc="-1" strike="noStrike">
              <a:solidFill>
                <a:srgbClr val="000000"/>
              </a:solidFill>
              <a:latin typeface="Times New Roman"/>
            </a:endParaRPr>
          </a:p>
          <a:p>
            <a:pPr marL="343080" indent="-3430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advantages: </a:t>
            </a:r>
            <a:endParaRPr b="0" lang="en-US" sz="25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flects just professional judgments, no clear link to student learning gains</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ing somewhat “co-opted” as the word gets out, meaning many proposals are too generous</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too many professional judgment panels unable to identify “evidence” or “research” that supports their proposals, which often reflect personal belief or personal philosoph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9B4D-5D1F-4C25-9569-FF8CB24F1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3" name="PlaceHolder 1"/>
          <p:cNvSpPr>
            <a:spLocks noGrp="1"/>
          </p:cNvSpPr>
          <p:nvPr>
            <p:ph type="title"/>
          </p:nvPr>
        </p:nvSpPr>
        <p:spPr>
          <a:xfrm>
            <a:off x="380520" y="38088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idence-Based Model</a:t>
            </a:r>
            <a:endParaRPr b="0" lang="en-US" sz="4400" spc="-1" strike="noStrike">
              <a:solidFill>
                <a:srgbClr val="3333cc"/>
              </a:solidFill>
              <a:latin typeface="Times New Roman"/>
            </a:endParaRPr>
          </a:p>
        </p:txBody>
      </p:sp>
      <p:sp>
        <p:nvSpPr>
          <p:cNvPr id="694" name="PlaceHolder 2"/>
          <p:cNvSpPr>
            <a:spLocks noGrp="1"/>
          </p:cNvSpPr>
          <p:nvPr>
            <p:ph/>
          </p:nvPr>
        </p:nvSpPr>
        <p:spPr>
          <a:xfrm>
            <a:off x="533520" y="1371600"/>
            <a:ext cx="8153280" cy="4572000"/>
          </a:xfrm>
          <a:prstGeom prst="rect">
            <a:avLst/>
          </a:prstGeom>
          <a:noFill/>
          <a:ln w="0">
            <a:noFill/>
          </a:ln>
        </p:spPr>
        <p:txBody>
          <a:bodyPr anchor="t">
            <a:normAutofit/>
          </a:bodyPr>
          <a:p>
            <a:pPr marL="343080" indent="-343080">
              <a:lnSpc>
                <a:spcPct val="9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ws from research and evidence-based best practices to identify those educational delivery strategies and their resource needs that are linked to student learning gains</a:t>
            </a:r>
            <a:endParaRPr b="0" lang="en-US" sz="20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tempts to “back” each resource recommendation with reference to research and/or best practic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iven the development of several comprehensive school reforms, can draw from those designs, which themselves often are based on compilations of research-supported practic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n also draw from a synthesis of the best professional judgment panel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n “speed up” and therefore reduce the cost of conducting an adequacy study</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en-US" sz="2100" spc="-1" strike="noStrike">
                <a:solidFill>
                  <a:srgbClr val="000000"/>
                </a:solidFill>
                <a:latin typeface="Times New Roman"/>
              </a:rPr>
              <a:t>Squares” with the evidence-based practice required by No Child Left Behin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D492-6506-4F62-9258-3BD32BFBD0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380520" y="763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idence-Based Model</a:t>
            </a:r>
            <a:endParaRPr b="0" lang="en-US" sz="4400" spc="-1" strike="noStrike">
              <a:solidFill>
                <a:srgbClr val="3333cc"/>
              </a:solidFill>
              <a:latin typeface="Times New Roman"/>
            </a:endParaRPr>
          </a:p>
        </p:txBody>
      </p:sp>
      <p:sp>
        <p:nvSpPr>
          <p:cNvPr id="698" name="PlaceHolder 2"/>
          <p:cNvSpPr>
            <a:spLocks noGrp="1"/>
          </p:cNvSpPr>
          <p:nvPr>
            <p:ph/>
          </p:nvPr>
        </p:nvSpPr>
        <p:spPr>
          <a:xfrm>
            <a:off x="533520" y="1219320"/>
            <a:ext cx="8153280" cy="487656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vantages: </a:t>
            </a:r>
            <a:endParaRPr b="0" lang="en-US" sz="21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s a detailed staffing for prototypic schools to address all key educational issues, with all proposals having a research and/or best practices bas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s from previous research and adequacy studies already conducted around the country – each element has an “evidence” rational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oids educator predilection to make proposals on individual philosophy rather than engage in “evidence-based” practic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simonious but robust – a “Ford” – not a “Cadillac” – not a “Yugo”</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ly, additional costs are less than other approaches</a:t>
            </a:r>
            <a:endParaRPr b="0" lang="en-US" sz="18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advantages: </a:t>
            </a:r>
            <a:endParaRPr b="0" lang="en-US" sz="21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school elements have a research base, or a strong research bas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not “stand alone”: needs a state panel of leading educators and policymakers to review and tailor to any particular state context</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d to link all recommendations combined  to a specific performanc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F3C1-27C6-4217-A4DB-B3B747D52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1" name="PlaceHolder 1"/>
          <p:cNvSpPr>
            <a:spLocks noGrp="1"/>
          </p:cNvSpPr>
          <p:nvPr>
            <p:ph type="title"/>
          </p:nvPr>
        </p:nvSpPr>
        <p:spPr>
          <a:xfrm>
            <a:off x="151920" y="274320"/>
            <a:ext cx="8915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utcome of Latter Two Approaches</a:t>
            </a:r>
            <a:endParaRPr b="0" lang="en-US" sz="4000" spc="-1" strike="noStrike">
              <a:solidFill>
                <a:srgbClr val="3333cc"/>
              </a:solidFill>
              <a:latin typeface="Times New Roman"/>
            </a:endParaRPr>
          </a:p>
        </p:txBody>
      </p:sp>
      <p:sp>
        <p:nvSpPr>
          <p:cNvPr id="702" name="PlaceHolder 2"/>
          <p:cNvSpPr>
            <a:spLocks noGrp="1"/>
          </p:cNvSpPr>
          <p:nvPr>
            <p:ph/>
          </p:nvPr>
        </p:nvSpPr>
        <p:spPr>
          <a:xfrm>
            <a:off x="761760" y="1447920"/>
            <a:ext cx="7848360" cy="441936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typical school designs &amp; staffing needs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ar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 or Intermediate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chool</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d cost per pupil of each prototype </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of the student, district and price adjustments needed</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resources adequate to enable schools/districts to determine most powerful educational strateg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DB72-B70B-4617-B811-A1B9EFAE8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5"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ponents of Prototypical Elementary, Middle, and High Schools</a:t>
            </a:r>
            <a:endParaRPr b="0" lang="en-US" sz="4000" spc="-1" strike="noStrike">
              <a:solidFill>
                <a:srgbClr val="3333cc"/>
              </a:solidFill>
              <a:latin typeface="Times New Roman"/>
            </a:endParaRPr>
          </a:p>
        </p:txBody>
      </p:sp>
      <p:sp>
        <p:nvSpPr>
          <p:cNvPr id="706" name="PlaceHolder 2"/>
          <p:cNvSpPr>
            <a:spLocks noGrp="1"/>
          </p:cNvSpPr>
          <p:nvPr>
            <p:ph/>
          </p:nvPr>
        </p:nvSpPr>
        <p:spPr>
          <a:xfrm>
            <a:off x="1117080" y="1980720"/>
            <a:ext cx="7340760" cy="4087800"/>
          </a:xfrm>
          <a:prstGeom prst="rect">
            <a:avLst/>
          </a:prstGeom>
          <a:noFill/>
          <a:ln w="0">
            <a:noFill/>
          </a:ln>
        </p:spPr>
        <p:txBody>
          <a:bodyPr anchor="t">
            <a:normAutofit fontScale="96000"/>
          </a:bodyPr>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size</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on</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instruction – class size</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st instruction/planning &amp; prep</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materials, textbooks, library books</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for struggling students – disabled, low income, ESL, GATE – such resources will vary by incidence of such students in each school – tutoring, ELL, extended day, summer school</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development </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1F63-E75B-4B58-A73C-79F5748583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Key School Components …</a:t>
            </a:r>
            <a:endParaRPr b="0" lang="en-US" sz="4000" spc="-1" strike="noStrike">
              <a:solidFill>
                <a:srgbClr val="3333cc"/>
              </a:solidFill>
              <a:latin typeface="Times New Roman"/>
            </a:endParaRPr>
          </a:p>
        </p:txBody>
      </p:sp>
      <p:sp>
        <p:nvSpPr>
          <p:cNvPr id="710" name="PlaceHolder 2"/>
          <p:cNvSpPr>
            <a:spLocks noGrp="1"/>
          </p:cNvSpPr>
          <p:nvPr>
            <p:ph/>
          </p:nvPr>
        </p:nvSpPr>
        <p:spPr>
          <a:xfrm>
            <a:off x="457200" y="1494000"/>
            <a:ext cx="8229600" cy="452592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echnology – school computers &amp; software including upgrading and maintenance cost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udent activiti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retarial</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perations and maintenance</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od services</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LU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trict design</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eschool</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ew Performance Pay Structure and salary level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justments for all prototypic designs for schools with more and fewer students, and with greater and lesser poverty, so each design is tailored to size and demographics of each school</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7D6C-D7EE-4F91-A8F3-81016EF5F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609480" y="6091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46" name="PlaceHolder 2"/>
          <p:cNvSpPr>
            <a:spLocks noGrp="1"/>
          </p:cNvSpPr>
          <p:nvPr>
            <p:ph/>
          </p:nvPr>
        </p:nvSpPr>
        <p:spPr>
          <a:xfrm>
            <a:off x="762120" y="1676520"/>
            <a:ext cx="774360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assessed value is only a percent of market value – in Wisconsin, it is supposed to be market valu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local assessments vary in their ability to identify the precise value, states often adjust local evaluations to a common base, using assessment-sales ratio studies, and use the “equalized” valuation in the school aid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F5ED-274F-4283-A6F0-1330D7DDA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s are identified as from local, state, federal or other sources, and whether for general purposes or restricted or “categorical” purposes, such as aid for disabled students, transportation, the federal Title I program for students coming from families with low income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7E18-669B-4FA0-9DE2-C6B164B8E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Expenditures</a:t>
            </a:r>
            <a:endParaRPr b="0" lang="en-US" sz="4400" spc="-1" strike="noStrike">
              <a:solidFill>
                <a:srgbClr val="3333cc"/>
              </a:solidFill>
              <a:latin typeface="Times New Roman"/>
            </a:endParaRPr>
          </a:p>
        </p:txBody>
      </p:sp>
      <p:sp>
        <p:nvSpPr>
          <p:cNvPr id="554" name="PlaceHolder 2"/>
          <p:cNvSpPr>
            <a:spLocks noGrp="1"/>
          </p:cNvSpPr>
          <p:nvPr>
            <p:ph/>
          </p:nvPr>
        </p:nvSpPr>
        <p:spPr>
          <a:xfrm>
            <a:off x="457200" y="1371600"/>
            <a:ext cx="7772400" cy="51055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ditures are divided into total, which includes capital, and operating, which excludes capital (buildings, buses, computer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ducational” expenditures are generally instruction, instructional support, and administration, and exclude transportation, operations and maintenance, food,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09D7-C8EF-42CB-90E7-085C771306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7" name="PlaceHolder 1"/>
          <p:cNvSpPr>
            <a:spLocks noGrp="1"/>
          </p:cNvSpPr>
          <p:nvPr>
            <p:ph type="title"/>
          </p:nvPr>
        </p:nvSpPr>
        <p:spPr>
          <a:xfrm>
            <a:off x="533160" y="609480"/>
            <a:ext cx="79246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Expenditures</a:t>
            </a:r>
            <a:endParaRPr b="0" lang="en-US" sz="4400" spc="-1" strike="noStrike">
              <a:solidFill>
                <a:srgbClr val="3333cc"/>
              </a:solidFill>
              <a:latin typeface="Times New Roman"/>
            </a:endParaRPr>
          </a:p>
        </p:txBody>
      </p:sp>
      <p:sp>
        <p:nvSpPr>
          <p:cNvPr id="558" name="PlaceHolder 2"/>
          <p:cNvSpPr>
            <a:spLocks noGrp="1"/>
          </p:cNvSpPr>
          <p:nvPr>
            <p:ph/>
          </p:nvPr>
        </p:nvSpPr>
        <p:spPr>
          <a:xfrm>
            <a:off x="533520" y="1447920"/>
            <a:ext cx="7743600" cy="487656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operating expenditures are reported by:</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salaries, benefits, etc.</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instruction, instructional support, administration, operation and maintenance, transportation, food, debt service, etc.</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 regular education, special ed, bilingual ed, comp ed, gifted &amp; talented, instructional support (which could have a professional development program), central admin, site admin, transportation, operations and maintenance, et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2127-C5ED-40DF-9946-25A37A0A1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Public School Expenditures</a:t>
            </a:r>
            <a:endParaRPr b="0" lang="en-US" sz="4800" spc="-1" strike="noStrike">
              <a:solidFill>
                <a:srgbClr val="3333cc"/>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ning to report expenditures by numbers, types and deployment of professionals – core academic teachers, instructional facilitators/mentors, non-core teachers (art, music, pe, library), tutors, resource room teachers, inclusion teachers, counselors, instructional aides – and how deploy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11-06-12T19:48:43Z</dcterms:modified>
  <cp:revision>50</cp:revision>
  <dc:subject/>
  <dc:title>No Slide Title</dc:title>
</cp:coreProperties>
</file>